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9E4-8A5E-4AD8-8A81-56C4CCB5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6AE-C083-48C6-B270-C1F5F51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F21-F3A3-4D3C-B2B0-7D01995A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EA7-84B3-42AB-A5DD-CDB11438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88E7-4887-4386-9C2B-0BB3E43B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48A4-39B8-4902-88D7-D69D3CB7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501A-D14A-4C96-915D-9C5DDBD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E2D8-718B-4DEE-8322-946D9A38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1C6B-B098-4F44-9E6F-C6B39C8F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D4CD-647A-4CCD-9437-73A4A702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EBC6-2BDD-4686-AFF4-6C12C675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4F5-89E4-43C3-9913-6C17118C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F235-362E-4C96-8799-9D884849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59A-A07F-4105-BE40-8422D3A1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E868-D75F-49CB-9592-92565536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C188-7118-4317-B7EC-5D86F755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7EA-F216-4333-AB03-8EA9C80B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7161-2DBF-4644-8262-F2EC6D8E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1911-4F8C-449F-81DD-A6E327E9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18CA-C24A-4A46-90E6-6BA765D5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EF5B-C2FC-4156-8403-FB0CCA04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A091-026C-417A-ABE3-F68273FC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845-459F-4A59-B154-605D6D5F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EC4E-D6DC-414B-A36C-A4E6E4DA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81AB-85C5-4C62-A6F7-38184B4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9816-09FB-4132-999A-E1246C0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DFFE-70EF-45B7-AEF1-C1459CD1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84B4-8672-4097-BA79-F5FF0E76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28A8-FB04-441C-8A95-BC3BC65E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C702-0EFD-4E4A-BDF3-5C7D5E54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A5CC2-7E0F-48B7-9F8A-1BB33616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014D-F5CD-4ADA-AF17-604EF7DD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FB66-D1F1-4FCF-A458-DCA88FF2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A9D-85D8-43C8-8EBD-D758BDB0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48403-053E-4A6A-B584-65182DB2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926D0-9FB0-496F-90AB-528456D1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D31B-23CA-4A93-B057-EE2F668E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03703-B1F7-41C9-94F9-11ECCB1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9C2A0-0525-4434-A07D-EC779162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817A6-5E63-4ECB-9D4D-18D3BE4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C915-BBAA-4FD8-89E9-B8C57D29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0C43-9D09-4162-99F0-CA2A050A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0F99-5BCD-479A-ACB4-CB093B1F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0B091-AC93-4419-A12C-B467D210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E6F-5312-45BA-B9DE-2DC3C34B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E78F1-495D-46DD-81C4-8A6F5795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DEEA0-61C9-4021-96A7-D7A505B1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445B-A71E-4D85-A4AA-E827DFAD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61302-D9A6-4EFD-B785-6FC067C5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2E556-17C8-4D04-84FF-869F3D1B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09C0A-77EC-44DA-8A32-93D171D8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8BEA-C33C-4750-940E-E858CB78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213D2-111F-460A-956A-CBFA79D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4A69B-DE3F-40C2-A388-7EE67146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8F913-7CE7-433A-B9C0-6B5C127F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E03-9FB0-40A2-9A32-2FA20EEE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1758-F99A-48A1-847A-7BA28416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AA931-30DB-4E99-8A38-962C2B5B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AF064-FF11-4B34-A941-D2B7370F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E924B-CB05-4C3E-8B8A-86EA212B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D5600-09DE-495F-8D66-2BF3AC0B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F6775-FCD0-47CB-9A85-EC38F542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AE16E-A7AD-42B4-BB66-113664C2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F096-2676-410F-B9DB-0284E073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BDB5E-E76E-4F2E-BE1B-F14E7C4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5C20-0A29-48AF-87EB-41BFBED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C99-0837-4F3F-ADBE-5B6058BF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A705-3660-4858-AEF5-3084AADC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604E4-537E-4546-8FA5-559277BF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16942-ABA0-451A-A432-89502481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5210E-0C92-432A-968A-78BC9B89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7BFC2-CD29-4955-8DC2-A10E53E5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45E18-5E64-4F6D-9B1F-E2BC71F3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3EAA6-E72E-488E-B2C6-87F80995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5DE1-146E-4602-BB98-CF1B9B46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35EB-6EFD-4CF5-BE86-8305FF12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C3921-2AA5-4226-AFD5-408E9B0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2BE-4610-45D5-8678-0D1E8080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67423-65F7-40A7-A087-B1D2B528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2F837-592B-41D9-8AE7-FA47C80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D993-AF8D-4279-9DE9-92EFAEEA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5B78C-87A7-49C6-AD04-40834A46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C6DCB-EE1D-4768-8C4A-527B712F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D89-C7F8-4114-95BE-5018D8F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1B7A5-23F7-40AA-AA9E-FF67E7C0C6D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4C845-3FDD-46CA-BD4F-E97017EAD11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7EA92-FE62-463F-8058-4BDD10992CE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2650F-4FD9-404A-AF2E-13A24F045947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BAD41-B21F-4B35-8F8B-FFDD9EB266A1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30C59-C787-4A34-8700-1B32DEAAE39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F7330-C661-4D10-9C3C-E436A4CF484D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F33E8-3AFD-4045-ADBF-9857F15886D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F5E57-3867-4840-8742-2C3E9EC7E89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10168-B626-4BD9-A6D9-50AB2A5DB34C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FF2C1-89A5-4C1A-B38B-F5B27BC3CC50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B86E2-535E-4439-89E6-7D466C22911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1DA75-DC1E-40FD-9732-1D216BAB15B5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4D059-573A-4395-9C98-7CA72F09551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pecial Issues in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 Light"/>
              </a:rPr>
              <a:t>MODULE 4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DR. CHING CHEN HUA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HOSPITAL SULTANAH BAHIYAH, KEDAH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MS. MANJULAA DEVI SUBRAMANIAM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HOSPITAL KUALA LUMPUR, KUALA LUMPUR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96302-3B3A-4FE9-84C6-2DB01B966BF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Foetal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1880" y="165708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term delivery was associated with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baseline hypertension (OR, 3.42;95% CI 1.87 to 6.21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ystemic disease (OR, 3.13; 95% CI 1.51 to 6.50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oteinuria (OR, 3.69; 95% CI 1.63 to 8.36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term delivery was more frequent in patients with CKD stage 2 (31.2%) and stage 3/4 (75%) renal impairment compared with stage 1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IUGR rates were 15%, 38.5%, or 42.9% in CKD stages 1, 2, and 3/4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8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Live infants outcomes born to women with mild renal injury (serum creatinine &lt;123 mol/L) were similar to the pregnant population as a whol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9. Wang F, et al. Kidney Blood Press Res. 2011;34(1):34-4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52E14-C9BB-48D1-BDBE-C4A5B9CDE10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an CKD patient get pregnan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nswer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: Individualis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gnancy may be considered in women with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, 57, 58, 59, 60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ild renal impairment (SCr &lt;124 µmol/L) and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lood pressure well controlle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…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60. Piccoli GB, et al. Clin J Am Soc Nephrol. 2010;5(5):844-55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06855-1F44-4F3E-A516-DD9DB291502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58664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an CKD patient get pregnant?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be planned!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aking into consideration the clinical status of the woma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With pre-conception review of medicat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arly referral for combined specialist c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CEi and ARB should be avoided in pregnancy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fer to 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Appendix 4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on United States Food and Drug Administration (FDA) Pharmaceutical Pregnancy Categori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2B6CC-6481-479D-812A-DE610949BAC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Pre-Pregnancy Care (PPC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21880" y="1846440"/>
            <a:ext cx="78534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set of healthcare and interventions given to women in their reproductive age before conception occu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 of pre-pregnancy care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for medical conditions and medical risk facto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and optimisation of medical conditions and risk facto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and supplementat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plann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6. Pre Pregnancy Care (PPC) (Available at www.myhealth.gov.my/en/prepregnancy-care-ppc/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473AF-BCDF-4173-BC45-0BC95B07CDF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in pregnanc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87049-2216-409B-A27A-FEA19769E80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1"/>
          <a:stretch/>
        </p:blipFill>
        <p:spPr>
          <a:xfrm>
            <a:off x="539640" y="1887480"/>
            <a:ext cx="812952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to do if a CKD patient is already pregnan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1880" y="2069640"/>
            <a:ext cx="75438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disciplinary care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e monitoring of progression of pregnancy and, maternal and foetal complications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communication between nephrologist and obstetrician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FA783-6898-4986-B4C3-0E80C9C9117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in elderl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1880" y="1653840"/>
            <a:ext cx="7543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fter the age of 40 years, GFR progressively declines at an average rate of 8 ml/min/1.73 m² per decad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Australian Diabetes, Obesity and Lifestyle (AusDiab) study showed that more than one-third of people over the age of 65 years have an eGFR &lt;60 ml/min/1.73 m²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 cross sectional survey done in UK between 2003 - 2010 showed that around half of the population &gt;70 years of age now have an eGFR &lt;60 ml/min/1.73 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Wide variability among individuals in the age-related fall in GF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a. Chadban SJ, et al. J Am Soc Nephrol. 2003 Jul;14(7 Suppl 2):S131-8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b. Aitken GR, et al. BMJ Open. 2014 Sep 29;4(9):e00548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3FAE3-1538-4A8F-A73B-D7BCB72C223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ontent Placeholder 3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1"/>
          <a:stretch/>
        </p:blipFill>
        <p:spPr>
          <a:xfrm>
            <a:off x="539640" y="1865160"/>
            <a:ext cx="8088480" cy="4084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863640" y="6037200"/>
            <a:ext cx="71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bert LA, et al. BH. Renoprotection: one or many therapies? Kidney Int. 2001 Apr;59(4):1211-2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Renal function deterioration rat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lderly vs young popula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1880" y="1846080"/>
            <a:ext cx="75438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RR of end-stage disease is much lower for an elderly patient with CKD than for a younger patient with the same level of kidney funct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pidemiologic studies suggest that age-related loss of renal function may be associated with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ystemic hypertens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therosclerotic disea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ne or more episodes of AK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c. Weinstein JR, et al. Adv Chronic Kidney Dis. 2010 Jul;17(4):302-7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FAF7D-55F8-4F56-860D-10962FC848F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lderly vs young population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1880" y="177300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t is important to recognise that the rate of decline in renal function is lower in the elderly and vast majority of patients with CKD do not progress to ESR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or those elderly patients that do reach ESRD, recent reports indicate that dialysis may not provide a clear benefit over conservative care regarding survival and quality of life, especially in those patients with extensive co-morbidities.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(Smith C, et al. Nephron Clin Pract. 2003;95(2):c40-6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nother study showed elderly with co-morbidities treated with dialysis had a median survival that was only 5 months longer from entry into CKD Stage 5 than patients who had undergone conservative kidney management.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(Chandna SM, et al. Nephrol Dial Transplant. 2011;26(5):1608-14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6E13C-05D6-430A-BFAD-BB73196C7DF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learn about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gnancy in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s it safe to get pregnan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at to do if one wants to get pregnan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at to do if one already get pregnan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KD in elder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en to refer to nephrologis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en to start RR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rugs and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How to use the medication safely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73B93-970F-4FD9-A75B-652A6CDF981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lderly vs young population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1880" y="177300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lderly patients with advanced CKD often have multiple extra-renal co-morbidities. The prospects of rehabilitation in such patients tend to be limited and the prognosis is often very poor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nal replacement therapy often adds little in additional quantity of life and can pose huge additional burdens for patients and their caregiver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An individualised approach is necessar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CFBC6-C30A-4B13-9B95-9EE6BFBD651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PG CKD2 says…..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ADF3C-92FA-4A50-A6C0-89EC90E511B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466560" y="2349360"/>
            <a:ext cx="824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Medications in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E6111-5653-4F81-990D-F7CCF162C0F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Diagram 12" descr=""/>
          <p:cNvPicPr/>
          <p:nvPr/>
        </p:nvPicPr>
        <p:blipFill>
          <a:blip r:embed="rId1"/>
          <a:stretch/>
        </p:blipFill>
        <p:spPr>
          <a:xfrm>
            <a:off x="1371600" y="2341440"/>
            <a:ext cx="2554200" cy="2492640"/>
          </a:xfrm>
          <a:prstGeom prst="rect">
            <a:avLst/>
          </a:prstGeom>
          <a:ln w="0">
            <a:noFill/>
          </a:ln>
        </p:spPr>
      </p:pic>
      <p:pic>
        <p:nvPicPr>
          <p:cNvPr id="374" name="Diagram 13" descr=""/>
          <p:cNvPicPr/>
          <p:nvPr/>
        </p:nvPicPr>
        <p:blipFill>
          <a:blip r:embed="rId2"/>
          <a:stretch/>
        </p:blipFill>
        <p:spPr>
          <a:xfrm>
            <a:off x="3797280" y="1560600"/>
            <a:ext cx="4249800" cy="3902040"/>
          </a:xfrm>
          <a:prstGeom prst="rect">
            <a:avLst/>
          </a:prstGeom>
          <a:ln w="0">
            <a:noFill/>
          </a:ln>
        </p:spPr>
      </p:pic>
      <p:sp>
        <p:nvSpPr>
          <p:cNvPr id="375" name="Straight Connector 15"/>
          <p:cNvSpPr/>
          <p:nvPr/>
        </p:nvSpPr>
        <p:spPr>
          <a:xfrm flipV="1">
            <a:off x="3692520" y="1951200"/>
            <a:ext cx="1471680" cy="116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Straight Connector 17" descr=""/>
          <p:cNvPicPr/>
          <p:nvPr/>
        </p:nvPicPr>
        <p:blipFill>
          <a:blip r:embed="rId3"/>
          <a:stretch/>
        </p:blipFill>
        <p:spPr>
          <a:xfrm>
            <a:off x="3359160" y="4151160"/>
            <a:ext cx="1822320" cy="1659240"/>
          </a:xfrm>
          <a:prstGeom prst="rect">
            <a:avLst/>
          </a:prstGeom>
          <a:ln w="0">
            <a:noFill/>
          </a:ln>
        </p:spPr>
      </p:pic>
      <p:sp>
        <p:nvSpPr>
          <p:cNvPr id="377" name="Slide Number Placeholder 2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7B411-4D63-442E-BB69-CCAB242AE4A3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5140440" y="5445000"/>
            <a:ext cx="25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RUG-INDUCED KIDNEY INJ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Medication use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Medications (drugs)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21880" y="1773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s with CKD has high pill burde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ugs also are a common source of organ injury e.g. kidney inju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L medications can be used in CK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L medications are suitable to be used throughout all stages of CK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medications regularly, in terms of suitability and appropriate dose adjustment to current renal func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non-prescription medications especially herbal preparations (discontinue aristolochic acid-containing preparations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746ED-096A-4A70-8633-D8A598E1255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560" y="1917360"/>
            <a:ext cx="76568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74600" indent="-174600">
              <a:lnSpc>
                <a:spcPct val="8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stolochic acid-containing preparations must be reviewed.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84" name="Content Placeholder 3" descr=""/>
          <p:cNvPicPr/>
          <p:nvPr/>
        </p:nvPicPr>
        <p:blipFill>
          <a:blip r:embed="rId1"/>
          <a:srcRect l="0" t="21753" r="0" b="21753"/>
          <a:stretch/>
        </p:blipFill>
        <p:spPr>
          <a:xfrm>
            <a:off x="611280" y="3432240"/>
            <a:ext cx="3556080" cy="221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214880" y="2865600"/>
            <a:ext cx="4219560" cy="3227400"/>
          </a:xfrm>
          <a:prstGeom prst="rect">
            <a:avLst/>
          </a:prstGeom>
          <a:ln w="0">
            <a:noFill/>
          </a:ln>
        </p:spPr>
      </p:pic>
      <p:sp>
        <p:nvSpPr>
          <p:cNvPr id="386" name="Title 1"/>
          <p:cNvSpPr/>
          <p:nvPr/>
        </p:nvSpPr>
        <p:spPr>
          <a:xfrm>
            <a:off x="82224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Medications (drugs) in CKD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1890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ommonly encountered nephrotoxic agen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13C74-CF42-4A0E-991B-C1A6129E767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Content Placeholder 6" descr=""/>
          <p:cNvPicPr/>
          <p:nvPr/>
        </p:nvPicPr>
        <p:blipFill>
          <a:blip r:embed="rId1"/>
          <a:srcRect l="-2539" t="3872" r="-3760" b="0"/>
          <a:stretch/>
        </p:blipFill>
        <p:spPr>
          <a:xfrm>
            <a:off x="725400" y="1670040"/>
            <a:ext cx="76834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ACEIs or ARBs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21880" y="1767960"/>
            <a:ext cx="754380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EIs and ARBs are the mainstay treatment in  delaying CKD progress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complications seen are hyperkalaemia and AKI and, these are exacerbated by certain conditions e.g. hypovolemic stat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ACEi/ARB-induced adverse effect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e therapy with low doses and gradually titrate upwar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kidney function, SCr and serum potassi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 if Scr rise &gt;30% from baseline or ….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using high dose concomitant diuretic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B61F1-DCB2-4002-876C-CB8DEBCD709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NSAIDs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sms of kidney injury by NSAID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KI from “pre-renal” or AT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stitial nephrit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phrotic syndrome (minimal change diseas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kidney potassium excretion → hyperkalemia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sodium excretion → hypertension, oedema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C5BE1-18FE-4E23-82F2-3A2739C106A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NSAIDs in CKD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ing evidence of association between chronic NSAIDs, aspirin and paracetamol use and the development of CKD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void NSAI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e.g. mefenamic acid, diclofenac acid, ibuprofen, naproxen, indomethacin, ketoprofen, salicylic acid (high dose)], including cyclooxygenase-2 Inhibitors (e.g. meloxicam, celecoxib and etoricoxib)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therapies other than NSA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.g. paracetamol,  opioid analgesics, etc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8BA6C-270A-4DDC-934B-62AA1C3F382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gnant mother with CKD = high risk pregnancy regardless of CKD stages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risks begin at CKD stage 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dictors of risk or adverse maternal-foetal outcome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KD stage - increased with more advanced stage of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aseline hypertens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aseline proteinuria (&gt;1 g/d)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sence of systemic disea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7. Piccoli GB, et al. J Am Soc Nephrol. 2015;26(8):2011-22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Iodinated Contrast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21880" y="1773360"/>
            <a:ext cx="75438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isk factors</a:t>
            </a:r>
            <a:r>
              <a:rPr b="1" lang="en-US" sz="2400" spc="-1" strike="noStrike" baseline="30000">
                <a:solidFill>
                  <a:srgbClr val="40404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e-existing renal impairment (SCr ≥132 μmol/L or an eGFR &lt;60 ml/1.73 m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Volume depletion (e.g. nephrotic syndrome, decompensated liver cirrhosis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DM     ◌ CCF    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 &gt;75 years     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emia (HCT &lt;39% in men, &lt;36% in women)     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u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osmolality contrast agents, large or repeated dose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urrent use of NSAIDs or RAAS-antagonists,  metformin and high dose diureti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thogene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irect tubular toxic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nal ischemia (osmotic diuresis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901B4-CDF9-4F33-BDC6-E67FDAC8BA2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mitigation strategies to avoid contrast-induced AKI</a:t>
            </a:r>
            <a:r>
              <a:rPr b="1" lang="en-MY" sz="4800" spc="-1" strike="noStrike" baseline="30000">
                <a:solidFill>
                  <a:srgbClr val="000000"/>
                </a:solidFill>
                <a:latin typeface="Calibri Light"/>
              </a:rPr>
              <a:t>9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Avoid radio-contrast agents in high risk patients if possible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Consider an alternative imaging study e.g. ultrasound, non-contrasted computerised tomography scan or magnetic resonance imaging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adolinium-based MRI should be avoided in patients with advanced renal failure due to increased risk of nephrogenic systemic fibrosi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Use isotonic saline peri-proced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There is insufficient evidence to support the use of N-acetylcysteine and sodium bicarbonat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Use non-ionic contrast media with low osmolarity (e.g. ioversol and iopamidol) or iso-osmolarity (e.g. iodixanol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Use the lowest dose of contrast possible and avoid repeated studies within 48 hour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84945-EA75-41A8-B65E-DB35A52B86E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Proton Pump Inhibitors (PPI)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21880" y="1846080"/>
            <a:ext cx="754380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 of proton pump inhibitors (PPI) has been shown to significantly increase the risk of developing CKD (RR/OR range of 1.10 to 1.50)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3-15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nd progression of CKD (HR between 1.26 to 1.32)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5-1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risk correlates with cumulative dose of exposure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4-1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ever, this association was not evident with cumulative dose of H</a:t>
            </a:r>
            <a:r>
              <a:rPr b="0" lang="en-MY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-blocker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 long-term PPI use unless with clear indic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11E26-1C4B-4521-B9B7-C0B7FDFD7E1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-2736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Drug dosing adjustment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6F015-898D-4025-B168-A3D3CB8D1C4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95280" y="1008000"/>
          <a:ext cx="8353440" cy="525168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1480"/>
                <a:gridCol w="1670040"/>
              </a:tblGrid>
              <a:tr h="52524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u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mal do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ld (GFR 60 - 90 ml/m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erate (GF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 - 59 ml/m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vere (GF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&lt;30 ml/m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29700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for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- 1000 mg B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djust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- 45: 50%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29700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iclazide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#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0 - 160 mg B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dosage adjustment necess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ontraindica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808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itagliptin </a:t>
                      </a:r>
                      <a:r>
                        <a:rPr b="1" lang="en-MY" sz="15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#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0 - 50: 50%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488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ildagliptin</a:t>
                      </a:r>
                      <a:r>
                        <a:rPr b="1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1" lang="en-MY" sz="15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#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0 mg OD - B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0 - 59: 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50: limited 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(limited dat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5232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pagliflo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- 1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dosage adjustment necess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488520"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anagliflo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 - 30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5 - 60: 10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5: 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431640"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mpagliflo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 - 25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5: 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7326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moxicillin + Clavulanic Acid (Augment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25 mg q8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dosage adjustment necessary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- 30: q12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0: q24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976680"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amethoxazole + Trimethoprim (TMP)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 mg q12h 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20 mg TMP/kg/day in divided doses q6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 mg q12h or 15 - 20 mg TMP/kg/day in divided doses q6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30: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5: 50% q12 - 24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  <p:sp>
        <p:nvSpPr>
          <p:cNvPr id="411" name="TextBox 2"/>
          <p:cNvSpPr/>
          <p:nvPr/>
        </p:nvSpPr>
        <p:spPr>
          <a:xfrm>
            <a:off x="865080" y="6381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- GFR estimated based on CKD-Epi eq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stimation of renal function for drug dosing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1880" y="1927080"/>
            <a:ext cx="75438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ckcroft-Gault equation has been traditionally used for drug dosing based on creatinine clearance (CrCl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KD-EPI equation is also used for drug dosing based on eGFR especially for newer generation drug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stimate of renal function (i.e. CrCl vs eGFR) used for drug dosing adjustment should follow the United States Food and Drug Administrative(USFDA) or European Medicines Agency(EMA)-approved product labeling of that specific drug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14CB0-2C1D-4820-8249-3E4AC5F1C10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81171-F964-4030-8030-2910B67023E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are the adverse outcomes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2240" y="1846440"/>
            <a:ext cx="370368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TERNAL OUTCOM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2240" y="2583000"/>
            <a:ext cx="37036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estational hyperten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e-eclamps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eclampsia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ew onset or worsening of proteinur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orsening of renal fun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Caesarean deliv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maternal deat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3800" y="1846440"/>
            <a:ext cx="370188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FOETAL OUTCOM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63800" y="2583000"/>
            <a:ext cx="37018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emature birt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ntra-uterine growth retard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mall-for-gestational a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low birth weigh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till birt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eonatal mortal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FAF9E-C619-43BF-AB5F-9E7E90C0ADA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rino-Cagliari Observational Study (TOCOS)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6318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Calibri"/>
              </a:rPr>
              <a:t>assessed whether the risk for adverse pregnancy outcomes is associated with CKD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6318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ompared 504 pregnancies in women with CKD with 836 low-risk pregnancies in women without CK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6318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d hypertension, proteinuria (0.1 g/d), systemic disease and CKD stage (at referral) as baseline assess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159DA-4800-45C7-9DD1-5F90699A606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r>
              <a:rPr b="1" lang="en-MY" sz="22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322E5-643B-481B-9323-30DAD7D9210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1"/>
          <a:stretch/>
        </p:blipFill>
        <p:spPr>
          <a:xfrm>
            <a:off x="395280" y="1617840"/>
            <a:ext cx="842472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r>
              <a:rPr b="1" lang="en-MY" sz="22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D8383-ABE0-4C36-AD34-D42F4C2A3D1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82803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r>
              <a:rPr b="1" lang="en-MY" sz="2200" spc="-1" strike="noStrike">
                <a:solidFill>
                  <a:srgbClr val="000000"/>
                </a:solidFill>
                <a:latin typeface="Calibri Light"/>
              </a:rPr>
              <a:t>-4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BC101-C9F8-4BDA-B397-07731042B53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212760" y="1773360"/>
            <a:ext cx="8763120" cy="45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"/>
          <p:cNvSpPr/>
          <p:nvPr/>
        </p:nvSpPr>
        <p:spPr>
          <a:xfrm>
            <a:off x="468360" y="64134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Baseline risk” for adverse pregnancy-related outcomes linked to CK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Maternal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1880" y="1699920"/>
            <a:ext cx="77821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ate of renal function deterioration and worsening of proteinuria during pregnancy correlates significantly with CKD stag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function deteriorates more in CKD stage 3/4 compared with stage 2 (60% vs 14.3%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8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oubling of proteinuria as CKD stage progresses are 20.5%, 86.5% and 70% in stage 1, 3 and 4 - 5 respectively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risk for adverse outcomes increased across stages (for stage 1 vs stages 4 - 5)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eneral” combined outcome, 34.1% vs 90.0%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evere” combined outcome, 21.4% vs 80.0%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8. Alsuwaida A, et al. J Matern Fetal Neonatal Med. 2011;24(12):1432-6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2BA34-F973-4216-B384-4BDB6B0F4F4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3:51:27Z</dcterms:modified>
  <cp:revision>227</cp:revision>
  <dc:subject/>
  <dc:title>SCREENING &amp; DIAGNOSIS</dc:title>
</cp:coreProperties>
</file>